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s-MY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47E91-CBC8-41A6-B7D7-BD7A8FEAF042}" type="slidenum">
              <a:rPr b="0" lang="ms-MY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52831-CABD-4BB6-82A7-77D948530557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EB192C-D729-44D1-B46A-7853F9ED96EB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E45C-1E4D-41E4-B9C0-0ED3C40C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9273-604A-43E8-95D0-EAAB01C7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1201-8E60-4648-87F4-C3C6BA92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EFA0-061B-49C9-915D-65745440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2708-4066-484A-95FA-754D0E9C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A989-548A-4020-974B-679A71BF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6E14-F1A0-4B63-AE74-842F631D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7A54-BF04-45B2-BD9A-042AFEA8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6384-4A1A-464A-9528-F2CAC6BA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6576-D525-4615-9F73-9836EE12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C39C-C8B2-4CD9-93B0-F75F2217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CCDA-4210-4D62-81BB-B6E73D57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3E43-355A-438A-9517-F2A83309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DB2E-691D-4D5E-9816-E84C8E48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4614-3C87-4631-B581-6BEC8225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E3EC-8298-4AD0-B664-AA60B209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D926-642E-4C98-A87E-08449347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BAA4D-CCE0-4E42-867F-9F9712EA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1C85C-FE24-4728-9147-0EC033E1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8A050-B8F7-42D5-AD29-0EDDB649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AF3A4-A062-47A9-AE59-5D4C33D6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986E6-CA4F-4D27-938E-BC59CB23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9173-363F-469D-81C4-96610212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CEB8B-E768-40CD-94E0-1C67EA50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45E2E-D70C-444D-879F-4F836B1A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21117-E34A-41D9-AAF2-24B6EEFB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29CB8-CEF5-40BA-8030-A0A3A6E5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37260-2893-43F6-B403-B72AC93F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545AD-A23D-4074-8A67-39A6F07F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95CCC-C115-4ADB-A5F8-25C5E236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F3ABA-22D5-4806-B375-99FBDF85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2D63F-82E1-4E26-87F8-19CD8808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22090-FABC-47B8-8B9B-55130E7C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33EA-DAB7-46EA-BEF4-14403E09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2503D-3755-4FD9-A4E0-32008CB1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0A7FF-3685-479D-9C81-C7240843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E574D-E22D-4367-8E48-B94CC675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953A5-866E-4605-B690-AC32CDA5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C08BA-AE99-4735-8653-D1D399EB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82C38-9681-4B7D-9DF6-38E1F5B2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927F3-07A3-4988-9A56-507E1E08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B2911-5368-4373-A194-7A00E1F6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25777-1D06-4067-8BAD-78338E1D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FD040-E2CA-4712-8A20-D6ED49DF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A8C0-A374-4837-8608-5E652F41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BF6F9-48F4-47F8-B161-51E0E318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94D69-90FF-4959-9520-97DE905F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3926B-9985-445C-B9D9-54961453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E516A-438C-40ED-B85F-946CB130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00A4E-742E-4B35-B242-5195574A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B7687-0C0C-4FFC-8A2E-60DD4D6F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9C1AD-2A3F-4CED-AC4E-2503BE12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03D62-B4F9-448E-853B-AC87D700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AC283-15CA-4DB8-87E9-FCA23AD8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FF885-4CC9-4816-BAAC-FF4FBC8D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BEA1-D3DD-4928-893B-A5C1A7CA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85530-1DA7-4E3B-AB14-EF6AB494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FD641-1E5D-4BA9-8497-0BF967E4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03E45-899A-447F-B969-EAD04537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98706-8783-4B1F-A457-3F4C1973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6BF90-CA21-4EF3-A598-33657F3E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E3599-B77F-48CE-B16C-9A035F69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4CD88-E515-4150-B4F2-222C9B83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5DEE9-F678-4A2A-AB56-E9B90738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77F80-97D5-42F2-A236-3E9ABF1E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6C8A5-BA31-4DC0-B397-50071915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1B0F-1EE6-4AB9-B71C-3117F818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00B53-8073-48DB-87BE-BFA7AC52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12664-6873-4C57-8EA1-EDF67B63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CB6EB-C72A-4EA5-8213-BC42EF92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C5522-B193-48BB-8414-CE7B96DC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51E67-9861-4A58-8B9F-53C63980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97434-57CC-497A-A50E-616BA46D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75490-029F-4D02-97FF-40F2FACC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7AB7D-F507-486C-A7D9-6E360057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54ACF-E495-4B0E-A35F-AEFAFFBC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A7F00-F372-41CC-8B5B-BFE544AA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2D25-579E-42FF-9A8B-031F52D7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CB2E3-355B-493B-B0E8-4E055955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A6304-145D-4DE8-8BC6-181263AF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5EB86-11A8-4B8A-AB36-391DA22D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FD192-F70B-4649-9FAE-E59D2D69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2DD66-34A6-40A6-AD76-D7A42A16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9E2C-48FD-44EB-B9EF-A22C5BAF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7E3F7-03F4-4E42-B3FD-557A9DC19B49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FD3A1-8717-4DC9-AD28-EC2E88E52D45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9C0702-1CF6-46D7-AA66-C35C09F3BF9E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F025B2-49FA-4186-9A2B-0890E52914BF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AA9F9-503F-4C3C-A850-C6A0112D2CC4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EBA24B-BB80-442A-BE6E-A1EAFAB092BB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7C21D3-4682-4893-94C1-AD519694C7DF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5A68B-33D1-4E85-9B0D-8FE89343A5CD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4B4BC9-B840-4911-B999-CDA66264971B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89AFC-3613-42FD-9198-EC81BE659A76}" type="slidenum">
              <a:rPr b="0" lang="ms-MY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86C74-CEE2-4420-916C-13EB91682C88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FF5E3C-93B6-48B4-89B2-B2C421F82D6B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AA466-DC86-4E5E-9CED-241C7DE350E2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BEAA50-9438-43B1-9617-21BD1B328DE0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Delaying CKD Progression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825120" y="4456080"/>
            <a:ext cx="792324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 Light"/>
              </a:rPr>
              <a:t>MODULE 2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900" spc="-1" strike="noStrike">
                <a:solidFill>
                  <a:srgbClr val="000000"/>
                </a:solidFill>
                <a:latin typeface="Calibri Light"/>
              </a:rPr>
              <a:t>DR. SUNITA BAVANANDAN, HOSPITAL KUALA LUMPUR, KL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900" spc="-1" strike="noStrike">
                <a:solidFill>
                  <a:srgbClr val="000000"/>
                </a:solidFill>
                <a:latin typeface="Calibri Light"/>
              </a:rPr>
              <a:t>A/P DR. LIM SOO KUN, PUSAT PERUBATAN UNIVERSITI MALAYA, KL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900" spc="-1" strike="noStrike">
                <a:solidFill>
                  <a:srgbClr val="000000"/>
                </a:solidFill>
                <a:latin typeface="Calibri Light"/>
              </a:rPr>
              <a:t>DR. ANG HOCK AUN, BAGAN SPECIALIST CENTRE, PULAU PINANG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  <p:sp>
        <p:nvSpPr>
          <p:cNvPr id="314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B7D5E3-5842-40FF-9718-87643E7368E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Optimal blood pressure control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821880" y="1774800"/>
            <a:ext cx="75438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he majority of CKD patients (70 - 80%) have hypertension (usually systolic) which is more severe than non-CKD patients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BP lowering has an impact on all-cause mortality, cardiovascular (CV) events, stroke risk and progression of kidney disease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ny class of antihypertensive agents can be used to control BP in CKD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However, some antihypertensive agents have additional antiproteinuric effect [e.g. Angiotensin-Converting Enzyme Inhibitor (ACEi)/Angiotensin Receptor Blocker (ARB)]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9. MoH, Malaysia. Management of CKD in Adults. Putrajaya: MoH; 2011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9B7492-FB63-42FA-B5B7-4CC8B94FC5A9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Blood pressure targe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B9489-FC95-46DA-9CF9-23DF004D213A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Picture 7" descr=""/>
          <p:cNvPicPr/>
          <p:nvPr/>
        </p:nvPicPr>
        <p:blipFill>
          <a:blip r:embed="rId1"/>
          <a:stretch/>
        </p:blipFill>
        <p:spPr>
          <a:xfrm>
            <a:off x="822240" y="1800360"/>
            <a:ext cx="763740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Antihypertensive agents in CKD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8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ACD90A-3C1F-4787-B43E-75A3FD5CB27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790560" y="1800360"/>
            <a:ext cx="7726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Content Placeholder 1" descr=""/>
          <p:cNvPicPr/>
          <p:nvPr/>
        </p:nvPicPr>
        <p:blipFill>
          <a:blip r:embed="rId1"/>
          <a:stretch/>
        </p:blipFill>
        <p:spPr>
          <a:xfrm>
            <a:off x="1193760" y="1862280"/>
            <a:ext cx="6834240" cy="44463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2"/>
          <p:cNvSpPr/>
          <p:nvPr/>
        </p:nvSpPr>
        <p:spPr>
          <a:xfrm>
            <a:off x="7583400" y="2492280"/>
            <a:ext cx="113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Losar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Irbesar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Valsar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Telmisar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5398920" y="4597560"/>
            <a:ext cx="140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Perindopr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Enalapr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Ramipr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Captopr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6"/>
          <p:cNvSpPr/>
          <p:nvPr/>
        </p:nvSpPr>
        <p:spPr>
          <a:xfrm>
            <a:off x="7559640" y="4057560"/>
            <a:ext cx="112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Amlodip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Felodip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7"/>
          <p:cNvSpPr/>
          <p:nvPr/>
        </p:nvSpPr>
        <p:spPr>
          <a:xfrm>
            <a:off x="684360" y="2460600"/>
            <a:ext cx="1020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Atenol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Metoprol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Bisoprol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Carvedil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8"/>
          <p:cNvSpPr/>
          <p:nvPr/>
        </p:nvSpPr>
        <p:spPr>
          <a:xfrm>
            <a:off x="642960" y="3914640"/>
            <a:ext cx="1120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Prazos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Terazos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Moxonid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Minoxid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5398920" y="1898640"/>
            <a:ext cx="14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H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Indapami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858E7-33DA-4E55-882C-5E508ECF6D77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Different classes of antiHPT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enin-angiotensin system (RAS) blocker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50560" y="1844280"/>
            <a:ext cx="87138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CEi and ARB confer both renoprotective and cardioprotective effects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here is more evidence on the use of ACEi or ARB in proteinuric diabetic kidney disease (DKD) compared to non-proteinuric DKD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CEi is more cost-effective than ARB. It should be prescribed first and changed to ARB only if there is non-renal adverse drug reaction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Dual RAS blockade should not be prescribed routinely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Dual RAS blockade may only be considered in non-DKD patients who remain hypertensive with persistent proteinuria &gt;0.5 g/day provided that serum potassium is within normal range (after discussion with nephrologist)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33BB5-3341-4426-90BF-9175A1297DF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enin-angiotensin system (RAS) blockers</a:t>
            </a:r>
            <a:r>
              <a:rPr b="1" lang="en-MY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98240" y="1846440"/>
            <a:ext cx="832140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enal profile should be reassessed within 2 weeks upon initiation or dose escalation of ACEi/ARB therapy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CEi/ARB should be titrated to the maximum recommended dose to achieve optimal BP and anti-proteinuric targets provided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SCr levels remain &lt;30% from the baseline (or eGFR reduces &lt;25%) o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serum potassium &lt;5.6 mmol/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Consider to reduce or discontinue ACEi/ARB within 2 months upon commencement (after excluding other precipitating factors) when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Calibri"/>
              </a:rPr>
              <a:t>SCr levels remain ≥30% from the baseline (or eGFR reduces ≥25%)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serum potassium ≥5.6 mmol/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64D17-50D0-47A8-A020-38BEC38A873A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Proteinuria reductio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21880" y="1846440"/>
            <a:ext cx="75438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oteinuria is an independent predictor for renal disease progression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he magnitude of baseline proteinuria has a linear relationship with progression of CKD and risk of CV events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CEi/ARBs remain as the main agents that confer significant proteinuria reduction that leads to renoprotect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gents e.g. non-dihydropyridine calcium channel blockers (CCBs), vitamin D analogues, pentoxifylline etc. also have proteinuria reduction effect but do not confer significant renoprotect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8647F-A1C3-4CEE-B4D5-C7C402DA5C1B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404040"/>
                </a:solidFill>
                <a:latin typeface="Calibri Light"/>
              </a:rPr>
              <a:t>Glycaemic control</a:t>
            </a: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 for renoprotectio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68000" y="3141360"/>
            <a:ext cx="820908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Optimal glycaemic control should be attained to reduce the complications of diabetes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ggressive glycaemic control in patients with established CVD may increase the risks of hypoglycaemia and death due to impaired drug metabolism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egular blood glucose measurements are advised for more accurate assessment of diabetic control as HbA1c maybe falsely low in CKD due to anaemia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904A5-A063-47C6-ADF5-6A996772856E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Picture 5" descr=""/>
          <p:cNvPicPr/>
          <p:nvPr/>
        </p:nvPicPr>
        <p:blipFill>
          <a:blip r:embed="rId1"/>
          <a:stretch/>
        </p:blipFill>
        <p:spPr>
          <a:xfrm>
            <a:off x="763560" y="1773360"/>
            <a:ext cx="7747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8000" spc="-1" strike="noStrike">
                <a:solidFill>
                  <a:srgbClr val="000000"/>
                </a:solidFill>
                <a:latin typeface="Calibri Light"/>
              </a:rPr>
              <a:t>Strategies requiring more evidence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5696EA-FF61-4C2E-8C44-EB8073EA2E84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Lifestyle modific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404040"/>
                </a:solidFill>
                <a:latin typeface="Calibri"/>
              </a:rPr>
              <a:t>Dietary protein restrictio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Reduction of weigh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Low salt die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moking cessatio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A15AB-033A-4C17-B79A-2EADD500011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Learning objectiv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o learn the natural history of CKD and impact of optimal managemen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o discuss established strategies to delay CKD progressio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o understand potential strategies to delay CKD progression that would need further evidenc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792F7F-5F9D-42B6-9137-106F4D1174E0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Dietary protein restrictio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821880" y="3573000"/>
            <a:ext cx="7543800" cy="2295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roteinuria is an independent CV risk factor and an independent predictor for renal disease progression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rotein restriction is one of the supportive measures to delay CKD progression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3A214E-D8D8-4554-94D8-8760934DE34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Picture 6" descr=""/>
          <p:cNvPicPr/>
          <p:nvPr/>
        </p:nvPicPr>
        <p:blipFill>
          <a:blip r:embed="rId1"/>
          <a:stretch/>
        </p:blipFill>
        <p:spPr>
          <a:xfrm>
            <a:off x="696960" y="1916280"/>
            <a:ext cx="79074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000000"/>
                </a:solidFill>
                <a:latin typeface="Calibri Light"/>
              </a:rPr>
              <a:t>Sodium-glucose co-transporter-2 (SGLT-2) inhibitor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404040"/>
                </a:solidFill>
                <a:latin typeface="Calibri"/>
              </a:rPr>
              <a:t>Potential agen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Recent trials (EMPA-REG, CANVAS/CANVAS-R) on sodium-glucose co-transporter-2 (SGLT2) inhibitors have been shown to improve CV outcomes and may have renoprotective effect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39, 40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404040"/>
                </a:solidFill>
                <a:latin typeface="Calibri"/>
              </a:rPr>
              <a:t>Avoid if 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eGFR &lt;45 ml/min </a:t>
            </a:r>
            <a:r>
              <a:rPr b="0" lang="en-MY" sz="2800" spc="-1" strike="noStrike">
                <a:solidFill>
                  <a:srgbClr val="404040"/>
                </a:solidFill>
                <a:latin typeface="Calibri"/>
              </a:rPr>
              <a:t>due to reduced efficacy in lowering HbA1c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404040"/>
                </a:solidFill>
                <a:latin typeface="Calibri"/>
              </a:rPr>
              <a:t>39. Wanner C, et al. N Engl J Med. 2016;375(4):323-34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404040"/>
                </a:solidFill>
                <a:latin typeface="Calibri"/>
              </a:rPr>
              <a:t>40. Neal B, et al. N Engl J Med. 2017;377(7):644-57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2353F-F425-43EA-8ECA-21DB4DAE98F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Uric acid reductio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re is emerging evidence to suggest uric acid reduction (e.g. by allopurinol, febuxostat) is a potential strategy to delay CKD progression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45, 46, 47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owever, more RCTs are needed to confirm the renoprotective effect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45. Kanji T, et al. BMC Nephrol. 2015;16:58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46. Bose B, et al. Nephrol Dial Transplant. 2014;29(2):406-13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47. Sircar D, et al. Am J Kidney Dis. 2015;66(6):945-50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A8EFC-7C3F-4797-B1E2-290031DE9D8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Strategies - not prove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Dual RAS blockad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Lipid lowering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Vitamin D analogu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entoxyfyllin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raditional medicin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90AEA5-CF8F-48A2-A3C4-A8C4DD80D766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8000" spc="-1" strike="noStrike">
                <a:solidFill>
                  <a:srgbClr val="000000"/>
                </a:solidFill>
                <a:latin typeface="Calibri Light"/>
              </a:rPr>
              <a:t>Thank you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F14C4F-4944-46C8-9D00-DAB9EB476244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638280" y="1467000"/>
            <a:ext cx="7939080" cy="4619520"/>
          </a:xfrm>
          <a:prstGeom prst="rect">
            <a:avLst/>
          </a:prstGeom>
          <a:ln w="0">
            <a:noFill/>
          </a:ln>
        </p:spPr>
      </p:pic>
      <p:sp>
        <p:nvSpPr>
          <p:cNvPr id="319" name="TextBox 8"/>
          <p:cNvSpPr/>
          <p:nvPr/>
        </p:nvSpPr>
        <p:spPr>
          <a:xfrm>
            <a:off x="2700360" y="6381720"/>
            <a:ext cx="6159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* K/DOQI guidelines. AJKD 2002; 39 (Suppl 1): S1-S26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17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KD - Irreversible proces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790289-73E7-4AB0-B2C6-00A5DED3178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Picture 1" descr=""/>
          <p:cNvPicPr/>
          <p:nvPr/>
        </p:nvPicPr>
        <p:blipFill>
          <a:blip r:embed="rId1"/>
          <a:stretch/>
        </p:blipFill>
        <p:spPr>
          <a:xfrm>
            <a:off x="216000" y="1403280"/>
            <a:ext cx="8712000" cy="4354560"/>
          </a:xfrm>
          <a:prstGeom prst="rect">
            <a:avLst/>
          </a:prstGeom>
          <a:ln w="0">
            <a:noFill/>
          </a:ln>
        </p:spPr>
      </p:pic>
      <p:sp>
        <p:nvSpPr>
          <p:cNvPr id="324" name="Title 1"/>
          <p:cNvSpPr/>
          <p:nvPr/>
        </p:nvSpPr>
        <p:spPr>
          <a:xfrm>
            <a:off x="822240" y="287280"/>
            <a:ext cx="75438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KD ≠ Dialys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6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2EDF2F-A97C-4241-8F1D-E8F68FDE0DFB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Content Placeholder 2"/>
          <p:cNvGraphicFramePr/>
          <p:nvPr/>
        </p:nvGraphicFramePr>
        <p:xfrm>
          <a:off x="493560" y="1577880"/>
          <a:ext cx="8371080" cy="455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7" name="Content Placehold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577880"/>
                    <a:ext cx="837108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Straight Connector 4"/>
          <p:cNvSpPr/>
          <p:nvPr/>
        </p:nvSpPr>
        <p:spPr>
          <a:xfrm>
            <a:off x="4680000" y="486900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traight Connector 6"/>
          <p:cNvSpPr/>
          <p:nvPr/>
        </p:nvSpPr>
        <p:spPr>
          <a:xfrm>
            <a:off x="7740720" y="4869000"/>
            <a:ext cx="0" cy="720720"/>
          </a:xfrm>
          <a:prstGeom prst="line">
            <a:avLst/>
          </a:prstGeom>
          <a:ln w="316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1988280" y="414972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800" spc="-1" strike="noStrike">
                <a:solidFill>
                  <a:srgbClr val="ff0000"/>
                </a:solidFill>
                <a:latin typeface="Calibri"/>
              </a:rPr>
              <a:t>-10 ml/min/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4219560" y="385272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800" spc="-1" strike="noStrike">
                <a:solidFill>
                  <a:srgbClr val="ff0000"/>
                </a:solidFill>
                <a:latin typeface="Calibri"/>
              </a:rPr>
              <a:t>-5 ml/min/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8"/>
          <p:cNvSpPr/>
          <p:nvPr/>
        </p:nvSpPr>
        <p:spPr>
          <a:xfrm>
            <a:off x="5951520" y="320832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800" spc="-1" strike="noStrike">
                <a:solidFill>
                  <a:srgbClr val="ff0000"/>
                </a:solidFill>
                <a:latin typeface="Calibri"/>
              </a:rPr>
              <a:t>-2 ml/min/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traight Connector 2"/>
          <p:cNvSpPr/>
          <p:nvPr/>
        </p:nvSpPr>
        <p:spPr>
          <a:xfrm>
            <a:off x="284040" y="4795920"/>
            <a:ext cx="877896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E72C2-2ECB-4719-9317-6B7EF0E890BB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The impact of intervention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Content Placeholder 2" descr=""/>
          <p:cNvPicPr/>
          <p:nvPr/>
        </p:nvPicPr>
        <p:blipFill>
          <a:blip r:embed="rId1"/>
          <a:stretch/>
        </p:blipFill>
        <p:spPr>
          <a:xfrm>
            <a:off x="396720" y="1195560"/>
            <a:ext cx="8277480" cy="564336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: Rounded Corners 1"/>
          <p:cNvSpPr/>
          <p:nvPr/>
        </p:nvSpPr>
        <p:spPr>
          <a:xfrm>
            <a:off x="569880" y="1671480"/>
            <a:ext cx="1770120" cy="698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3"/>
          <p:cNvSpPr/>
          <p:nvPr/>
        </p:nvSpPr>
        <p:spPr>
          <a:xfrm>
            <a:off x="755640" y="1835280"/>
            <a:ext cx="14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void in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B9DA4B-4E5C-4158-B3AF-2A6B4D66D9A9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43920"/>
            <a:ext cx="7543800" cy="144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CKD management pla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Content Placeholder 2" descr=""/>
          <p:cNvPicPr/>
          <p:nvPr/>
        </p:nvPicPr>
        <p:blipFill>
          <a:blip r:embed="rId1"/>
          <a:stretch/>
        </p:blipFill>
        <p:spPr>
          <a:xfrm>
            <a:off x="396720" y="1195560"/>
            <a:ext cx="8277480" cy="564336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: Rounded Corners 1"/>
          <p:cNvSpPr/>
          <p:nvPr/>
        </p:nvSpPr>
        <p:spPr>
          <a:xfrm>
            <a:off x="569880" y="1671480"/>
            <a:ext cx="1770120" cy="698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3"/>
          <p:cNvSpPr/>
          <p:nvPr/>
        </p:nvSpPr>
        <p:spPr>
          <a:xfrm>
            <a:off x="755640" y="1835280"/>
            <a:ext cx="14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void in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54240E-0020-424F-BEF2-16215E41BB2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43920"/>
            <a:ext cx="7543800" cy="144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CKD management pla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Content Placeholder 6" descr=""/>
          <p:cNvPicPr/>
          <p:nvPr/>
        </p:nvPicPr>
        <p:blipFill>
          <a:blip r:embed="rId1"/>
          <a:stretch/>
        </p:blipFill>
        <p:spPr>
          <a:xfrm>
            <a:off x="469800" y="1785960"/>
            <a:ext cx="8229600" cy="452268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A3257-6669-4579-AC08-B4E89263329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 Light"/>
              </a:rPr>
              <a:t>Strategies to delay CKD progressio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8000" spc="-1" strike="noStrike">
                <a:solidFill>
                  <a:srgbClr val="000000"/>
                </a:solidFill>
                <a:latin typeface="Calibri Light"/>
              </a:rPr>
              <a:t>Established strategies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3C91FD-7FF8-49F6-8C86-B0EBA894FC83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4T09:53:13Z</dcterms:created>
  <dc:creator>user</dc:creator>
  <dc:description/>
  <dc:language>en-US</dc:language>
  <cp:lastModifiedBy>Dr. Mohd. Aminuddin</cp:lastModifiedBy>
  <dcterms:modified xsi:type="dcterms:W3CDTF">2019-05-02T03:13:37Z</dcterms:modified>
  <cp:revision>164</cp:revision>
  <dc:subject/>
  <dc:title>SCREENING &amp; DIAGNOSIS</dc:title>
</cp:coreProperties>
</file>